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drumroll.wav" ContentType="audio/x-wav"/>
  <Override PartName="/ppt/media/applause.wav" ContentType="audio/x-wav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A67E-054C-4915-B270-011AB745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D0F2-1CCB-4A5C-87D6-E46C125C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2BEA-B8A9-42C8-9255-D1856B40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3DDC-F415-4658-A640-04A8B553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1358-1082-48B8-B874-D6CA04EF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1105-A5DD-4393-9A6B-29538095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F108-1A34-464A-B2C0-56BC8E12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E514-51FB-418B-A277-5640F1DC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B31F-1053-4F66-98F4-D0D63EFD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D1E0-5CC5-4274-8136-B43C8A6D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9AE6-A150-4F39-9C12-48208A1A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9A16-3036-40D4-952A-83ECE38A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AA2A-0AF0-40E1-B97A-2E29927E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206B-C1C8-4879-AA7F-D5CDB8B5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8C7E-537A-4861-BC57-5A355BAF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572D-D1C8-4F1C-8291-22CF6DB7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FB6B-DBB1-436B-91B9-36A4AF09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FE18-064C-4CE6-870D-3220AE25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BD85-5401-416F-BDAB-18F9F0DD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5538-5E54-411B-84BA-3D160878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47E3-B312-4806-802C-461F7B8E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1E26-3913-4673-9FB0-739F5396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37F6-C4E2-42FE-89AE-2A5A74C0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AB24-01B2-45C4-B618-3AD2DF79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764C-7DD8-4D0D-AF95-446AEBA2B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506C-CCD5-4668-ABEA-7D77CF194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olfson.ox.ac.uk/~outdoor/pictures/slides/Sea-view%20in%20Pembrokshire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43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sland of the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lue Dolphin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6840" y="5638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1 Week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9" descr="Island of the Blue Dolphins"/>
          <p:cNvPicPr/>
          <p:nvPr/>
        </p:nvPicPr>
        <p:blipFill>
          <a:blip r:embed="rId1"/>
          <a:stretch/>
        </p:blipFill>
        <p:spPr>
          <a:xfrm>
            <a:off x="6019920" y="380880"/>
            <a:ext cx="2896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ran out onto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eadla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the island to meet Dad’s shi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nd on a clif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nd that sticks out into the se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066680" y="4419720"/>
            <a:ext cx="7239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sey caught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ellfis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her net while she was fish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cklace made of shel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sea creature with a shel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066680" y="4419720"/>
            <a:ext cx="6705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hoped that the bear was long gone since we camped by his emp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ai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idden trai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imal’s d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2743200" y="4572000"/>
            <a:ext cx="3276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uffed animal had be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naw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n by the playful pupp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ew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ugg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666880" y="3733920"/>
            <a:ext cx="35053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saw brown fish that were almost hidden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kel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ral reef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awe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124080" y="4343400"/>
            <a:ext cx="26672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natives us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ine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om animals to make cloth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ndons connecting muscle and bo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ol from shee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457200" y="3886200"/>
            <a:ext cx="8001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were told to stay far back from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av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stant mountain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ep valle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286000" y="4343400"/>
            <a:ext cx="3581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3276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omic Sans MS"/>
              </a:rPr>
              <a:t>You’ve got it!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Words to Know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52280" y="1295280"/>
            <a:ext cx="3581640" cy="10670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33520" y="2666880"/>
            <a:ext cx="396216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457200" y="3886200"/>
            <a:ext cx="358128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371600" y="5334120"/>
            <a:ext cx="304812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4800600" y="1371600"/>
            <a:ext cx="373392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4876920" y="32767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5029200" y="5105520"/>
            <a:ext cx="3733920" cy="99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8120" y="2362320"/>
            <a:ext cx="5486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 water animal with a shel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962520" y="7621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6" descr="MPj04222130000[1]"/>
          <p:cNvPicPr/>
          <p:nvPr/>
        </p:nvPicPr>
        <p:blipFill>
          <a:blip r:embed="rId1"/>
          <a:stretch/>
        </p:blipFill>
        <p:spPr>
          <a:xfrm>
            <a:off x="3429000" y="434340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MCj04352110000[1]"/>
          <p:cNvPicPr/>
          <p:nvPr/>
        </p:nvPicPr>
        <p:blipFill>
          <a:blip r:embed="rId2"/>
          <a:stretch/>
        </p:blipFill>
        <p:spPr>
          <a:xfrm>
            <a:off x="6705720" y="4267080"/>
            <a:ext cx="18414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200040" y="2362320"/>
            <a:ext cx="5181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ny of various large, tough, brown seaweed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4038480" y="685800"/>
            <a:ext cx="35816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6" descr="stalked kelp Ecklonia radiata"/>
          <p:cNvPicPr/>
          <p:nvPr/>
        </p:nvPicPr>
        <p:blipFill>
          <a:blip r:embed="rId1"/>
          <a:stretch/>
        </p:blipFill>
        <p:spPr>
          <a:xfrm>
            <a:off x="152280" y="609480"/>
            <a:ext cx="3200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 narrow ridge of high land jutting out into the wate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4191120" y="990720"/>
            <a:ext cx="403848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7" descr="Sea-view%20in%20Pembrokshi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5720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971800" y="2362320"/>
            <a:ext cx="5410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en or resting place of a wild anima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038480" y="609480"/>
            <a:ext cx="35816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7" descr="MCAN04487_0000[1]"/>
          <p:cNvPicPr/>
          <p:nvPr/>
        </p:nvPicPr>
        <p:blipFill>
          <a:blip r:embed="rId1"/>
          <a:stretch/>
        </p:blipFill>
        <p:spPr>
          <a:xfrm>
            <a:off x="4648320" y="5029200"/>
            <a:ext cx="182700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657240" y="2362320"/>
            <a:ext cx="4724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 long, deep, narrow, valle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733920" y="457200"/>
            <a:ext cx="373356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9" descr="Drainage Ravine"/>
          <p:cNvPicPr/>
          <p:nvPr/>
        </p:nvPicPr>
        <p:blipFill>
          <a:blip r:embed="rId1"/>
          <a:stretch/>
        </p:blipFill>
        <p:spPr>
          <a:xfrm>
            <a:off x="0" y="1219320"/>
            <a:ext cx="3759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itten at or worn away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3581280" y="533520"/>
            <a:ext cx="358164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8120" y="2362320"/>
            <a:ext cx="5486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endon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3962520" y="7621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7" descr="500239-fx10"/>
          <p:cNvPicPr/>
          <p:nvPr/>
        </p:nvPicPr>
        <p:blipFill>
          <a:blip r:embed="rId1"/>
          <a:stretch/>
        </p:blipFill>
        <p:spPr>
          <a:xfrm>
            <a:off x="4419720" y="3809880"/>
            <a:ext cx="23810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4:11:38Z</dcterms:created>
  <dc:creator>Jefferson County BoE</dc:creator>
  <dc:description/>
  <dc:language>en-US</dc:language>
  <cp:lastModifiedBy>gormanl</cp:lastModifiedBy>
  <dcterms:modified xsi:type="dcterms:W3CDTF">2012-10-02T11:44:08Z</dcterms:modified>
  <cp:revision>15</cp:revision>
  <dc:subject/>
  <dc:title>Frindle Vocabulary Words</dc:title>
</cp:coreProperties>
</file>